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0B5B-2907-46F2-87B6-82601300E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1AC1-0D57-4AA4-9CAD-7C5318B00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1317-10F8-4981-9970-F50474660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8E76-8330-42B6-BC8E-7C70BD00B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9E5D-C6E4-4B9E-B4C3-8A5B897D4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291A-D38D-437D-AE77-D529A610F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B550-6855-435C-9618-004FA7BF8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7974-EEF3-4189-92D4-E8CFEACC6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E84E-A9F7-4478-A4C5-9324C8147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37A0-1D2B-4DA3-9BA6-FAC1809B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A295-F388-4C97-BCDA-B050F7FA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CF72-9E24-49C0-9CA9-5E38C4C7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9257B-E9C4-4AF4-A08B-D893CCB4625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RÄV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skussion eines neuen Präventionsgesetzes in Deutsch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ent der Förderung von Gesundheit und der Prävention von Erkranku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e demografische Entwicklung fordert ein Gesamtkonzep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11426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Zielgrupp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19160" y="2666880"/>
            <a:ext cx="37335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Ki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Jugendli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rwachs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Ältere Mensc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räventive Ansätz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360" y="1676160"/>
            <a:ext cx="7467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-  Individuelle Leistungen und Verhaltensänder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-  Settingleistungen im Rahmen von Projekten in der direkten Lebensumwe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-  Betriebliche Gesundheitsförder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-  Patientenrechte, Patientenverfüg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-  Transparenz, Beteiligungsrech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-  Infektionsschut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2514240"/>
            <a:ext cx="74674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e mitwirkenden Zielgruppen sind aufgefüh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Ärztliche Verantwortung und Mitarbeit in keinem der Punkte inhaltlich verank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ff00"/>
                </a:solidFill>
                <a:latin typeface="Times New Roman"/>
              </a:rPr>
              <a:t>Praeventionsangebote in Deutsch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Krebsfrüherkenn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Check-up 3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Hautche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Früherkennungsprogramm für Kinder und Jugendliche bis zum 16. Lebensja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Mutterschaftsvorso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Impfu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Medizinische Vorsorge für Mütter und Vä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ff00"/>
                </a:solidFill>
                <a:latin typeface="Times New Roman"/>
              </a:rPr>
              <a:t>Praeventionsangebote in Deutsch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Vorsorge mit den folgend aufgeführten Inhalten ist kostenfrei (keine Praxisgebüh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enn kein Nachweis einer regelmäßigen Inanspruchnahme der Früherkennungsuntersuchungen erfolgt dann wird bei Erkrankung eine erhöhte Zuzahlung von 2 Prozent für Arznei-, Verband-, Heil- und Hilfsmittel fällig (normal 1 Prozent der jährlichen Bruttoeinnahmen zum Lebensunterhal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utterschaftsvorsorg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848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Inhalte sind in der Sitzung in Budapest erläutert wur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Einige Krankenkasse (DAK, einige BKK) haben ein zusätzliches Angebot zur Reduktion der Frühgeburtenrate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Diagnostik der bakteriellen Vagin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zusätzliche Sonograph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heck-up 3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360" y="2285640"/>
            <a:ext cx="7467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b dem 35. Lebensjahr alle 2 Jah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ausarzt oder Intern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chwerpunkt Herz- Kreislauferkranku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                 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iabetes melli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                 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ierenerkranku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nha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19320" y="220968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Individuelles Risikoprofil analysier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Körperliche Untersuchung (manuel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Blutdruckkontro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Urinpro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Blutwerte (Cholesterin, evtl. HDL/LD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                      </a:t>
            </a: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Gluc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                      </a:t>
            </a: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Harnsä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                      </a:t>
            </a: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Kreatini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EKG, wenn indizie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Krebsfrüherkennungsprogram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Jährl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rauen ab 20. Lebensjah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änner ab 45. Lebensjah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tersabhängiger Leistungsinha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Umfasst Genitali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       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a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       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ckdarm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rau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2590920"/>
            <a:ext cx="73915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ab 20. Lebensjah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Anamne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Untersuchung äußere und innere Genit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Zervixabst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Gesundheitliche Versorgu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895480" y="2285640"/>
            <a:ext cx="3353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umfaß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- Präv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- Akutbehandl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- Rehabili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- Pfle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-2055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esundheit, Lebensqualität, Selbstbestimmung und Beschäftigungsfähigkeit altersgerecht zu erhalten und zu verstär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rau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6960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ab 30. Lebensjahr zusätzl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Palpation der Mamma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Anleitung zur Selbstuntersuchung der Br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Untersuchung von Hautveränderung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rau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828800" y="2971440"/>
            <a:ext cx="58672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ab 50. Lebensjahr zusätzl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rectale Palp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Haemoccult jährl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rau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240" y="2438280"/>
            <a:ext cx="7086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ab 55. Lebensjah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alle 2 Jahre Haemoc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o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Coloskopie mit Anspruch auf 2. nach 10 Jah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rau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3047760"/>
            <a:ext cx="7315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Von 50 bis 69 Jah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alle 24 Monate Mammographie-Scre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rau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00200" y="2819160"/>
            <a:ext cx="68580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bis 25. Geburts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jährlich Chlamydienabst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änn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47560" y="2285640"/>
            <a:ext cx="7010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b 45. Lebensjah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namne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Untersuchung äußere Genit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Untersuchung Prost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Untersuchung Hautveränderu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änn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9320" y="2590920"/>
            <a:ext cx="72388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ab 50. Lebensjahr zusätzl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rectale Palp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Untersuchung regionärer Lymphkno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jährlich Haemoc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änn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7391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ab 55. Lebensjah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alle 2 Jahre Haemoc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o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-  Coloskopie mit Anspruch auf zweite nach  10 Jah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ff00"/>
                </a:solidFill>
                <a:latin typeface="Times New Roman"/>
              </a:rPr>
              <a:t>Hautche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904760" y="2819160"/>
            <a:ext cx="65530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b 35. Lebensjah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e 2 Jah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Kinder- Vorsor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360" y="2742840"/>
            <a:ext cx="7467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U1- U9 von Neugeborenenalter bis 6. Lebensjah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JI für Jugendliche zwischen 12 und 15 Jah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Herausforderung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esamtkonzept zur Betreuung und Versorgung pflegebedürftiger, behinderter und alter Mensc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eistungen müssen Behinderungen, chronischen Erkrankungen und Pflegebedürftigkeit entgegenwir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Volkskrankheiten wie Krebs und Herz-Kreislauferkrankungen sollen zurückgedrängt werd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Kinder-Vorsor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umfas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unktion sämtlicher Org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unktion sämtlicher Sinnesorg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unktion des Bewegungsappa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eurteilung der Motor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eurteilung des Hörvermö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eurteilung der Sprachentwickl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eurteilung der sozialen und geistigen Entwickl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mpfung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00200" y="2743200"/>
            <a:ext cx="6019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estlegung nach dem aktuell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mpfkalender der Ständigen Impfkommiss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STIKO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mpfungen von Kassen übernom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Teta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Diphther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Pertus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Hib ( Haemophilus influenzae Typ 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Poliomyel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Hepatitis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Pneumokok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mpfungen von Kassen übernom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2285640"/>
            <a:ext cx="72392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Pneumokok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Meningokok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MMR (Masern, Mumps, Rötel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Varizel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HP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Influenz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mpfungen von manchen Kassen übernom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3880" y="3200400"/>
            <a:ext cx="5105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SME  (ständig an Aktualität zunehmen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edizinische Vorsorge für Mütter und Vä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240" y="2590920"/>
            <a:ext cx="70102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orsorgeleistung in Einrichtung 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üttergenesungswerkes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ei Gefährdung der gesundheitlic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ntwicklung des Kind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Ziel der Präv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ermeidung von Krankheits- und Krankheitsfolgekos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orbeugen von Krankhei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erhütung von arbeitsbedingten Gesundheitsgefah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erhütung von Pflegebedürftigkeit und Behinder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örderung der Beschäftigungsfähigk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rimäre Präv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Vorbeugen des erstmaligen Auftretens von Krankhei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ufklärung über Gesundheitsrisiken und Belastu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Kurse für Ernähr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Kurse zur Stressbewältig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ückensch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auchentwöhn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uchtpräv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fektionsschu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mpfu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0106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ekundäre Prävent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25142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dient der Früherkennung von symptomlosen Krankheitsvor- und frühstadi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Früherkennungsuntersuchu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Verringerung von Morbidität und Mortalitä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ertiäre Präv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ll der Verschlimmerung von Erkrankungen und Behinderungen vorbeu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ll Folgeerkrankungen vorbeu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Krankenbehandlung und Rehabili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Vierter Ansatzpunk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2438280"/>
            <a:ext cx="76201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ent dem Aufbau individueller Fähigkeiten sowie gesundheitsförderlicher Struktu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um das Maß an Selbstbestimmung zu erhö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ff00"/>
                </a:solidFill>
                <a:latin typeface="Times New Roman"/>
              </a:rPr>
              <a:t>Schlüsselpunkte der Durchsetzung der Präventionsmassnah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742840"/>
            <a:ext cx="67816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-  die Verbreit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-  die Verteilung auf bestimmte   Bevölkerungsgrupp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-  die gesundheitliche und ökonomische Bedeutung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14:29:17Z</dcterms:created>
  <dc:creator>Kerstin Dr. med. Jäger</dc:creator>
  <dc:description/>
  <dc:language>en-US</dc:language>
  <cp:lastModifiedBy>Brigitte Ruppitsch</cp:lastModifiedBy>
  <dcterms:modified xsi:type="dcterms:W3CDTF">2008-05-26T10:56:32Z</dcterms:modified>
  <cp:revision>2</cp:revision>
  <dc:subject/>
  <dc:title>PRÄVENTION</dc:title>
</cp:coreProperties>
</file>